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DE9-1535-4AF1-AA6E-0042450C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04F-C5E9-4A37-97DA-1EAE8C44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6B6-1206-4CBA-8CFF-39C29A9B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A52-6684-43F9-9460-DFB15E8B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8D9F-E64D-4EEE-BEF7-34A24AEA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E403-55E6-4832-AA44-EF48D353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584B-0BA2-4D3A-AB1A-23FB6E98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F3F3-537C-44AC-B010-FA2C106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124-A7C5-4128-982C-93DA262F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BB20-7E93-4521-8D43-5A2BBF5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7C43-324B-4901-AC7E-3C955A29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E58-C00B-4B8E-9EBE-8C698635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EDE2-F979-4305-925B-034AEC8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31BE-4BAB-42A2-908B-70E8B352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4925-9176-4541-8D21-074A815D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073-F36D-4766-AA5D-4DA9F8E1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176C-711F-4D3F-A8A2-25766619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8ED4-6F5D-4851-996E-FD0C52EE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542C-8D4F-4D7F-93E9-6ED37901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84DE-CBF1-4BF0-A1B8-E6F0AFD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9D0F-5F9F-46A3-8869-76E5A1B6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5700-E0C1-4D91-A569-4AB671D7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ACD-33E6-4D49-A1A6-614C9857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9666-A839-44EC-A6E2-82343029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FC31-21F6-499D-8760-A721E5C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918E-A882-4EB7-9A6D-EA8C1711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A7D5-FBC9-4053-9B4C-31349525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D641-1D6B-4975-A77D-02A004EA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09023-DD85-4F88-BF67-6DCDCEA9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20D2-A50B-4205-88F2-B462B07C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CE95-ECA8-4EF4-A5F8-6BA6070C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EAB9-5D40-4132-B102-ED69DD3D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4CFF-3A9A-4A93-ABA2-7FA3B34C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2B4-EDB6-4DE5-9133-85F0FD56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6451-6E0C-4E27-B4B3-6FAE857C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212B0-7F55-4FD9-94E0-CB4E3AB8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5042C-AC08-451C-86C6-6BBA1198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48A9-A9F1-4814-BD5E-78E50464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64B4-A709-4E05-9C0F-35C6F33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5DC28-A265-42B7-8FE3-BA737771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9AA4-AE32-4590-BA92-8B7632F9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B708-9554-4741-9BB6-6C2649F1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B65D1-4F03-4229-9D27-8A2D755C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114C-086F-41F6-9B4D-8EDB2312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D5C-DEF0-4F9A-AA07-443BDF66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969A-B27D-4F42-B8C3-16982C84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8826-B9E1-4C0D-8ED9-14D2A4E6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DD46D-1789-442E-AE2C-BD736A4A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C2040-AE0F-4930-A12D-3CFCFC94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3B0C3-0252-4099-8044-143A0A3B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E2D5A-5491-4634-8D1E-73624444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66F97-87E2-4364-BE57-B38BBA67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9FD81-E020-47D1-A63C-BF43FC1C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35C87-703F-4CDB-B70B-EB9F9C15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DFF8E-BA1C-4FC7-AA47-C4036F9F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BEE-ADA4-4DED-B93C-2BE2A7F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B552D-B007-4706-A80C-32B5F5FB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067-1DD8-4184-A0E4-CA7D784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D64-9AF4-4D8E-9A92-E0855D25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639-90CD-4071-B7BC-886F034A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6467-E829-4E67-9107-32BEF5BEC1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926-DAE2-430A-915A-A8B00B98E2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8D1D-C288-4C5A-B913-5F830D8B0C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102A-D946-4FCF-9D77-D7E75A4A5A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F44D-27A0-439C-8FBD-6AE3CF19D1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Perpetua"/>
              </a:rPr>
              <a:t>Sports Products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ranklin Gothic Book"/>
              </a:rPr>
              <a:t>Chapter 3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w much money would you pay for a season ticket to see your favorite sports team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Economic Impact of Sports Marketing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Consumer and Sports Produc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derstanding the sports consumer helps marketers to create effective marketing pla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Title 1"/>
          <p:cNvSpPr/>
          <p:nvPr/>
        </p:nvSpPr>
        <p:spPr>
          <a:xfrm>
            <a:off x="914400" y="309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ports Consumer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9144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 person who may play, officiate, watch, or listen to sports, or read, use, purchase, and/or collect items related to spor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To purchase a ticket or not purchase a ticket…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are some reasons a person would not buy a ticket to a sporting event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are some reasons a person would buy a ticket to a sporting event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914400" y="35812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Franklin Gothic Book"/>
              </a:rPr>
              <a:t>The goal of planning marketing strategies is to encourage the consumer to act as a customer and purchase tickets or merchandise – this is the job of the sports marketing personnel!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sumer Decis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vironmental Factors – family and friends; society’s attitude and values; cultural differences; marketing influe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dividual Factors – self-concept or self image, ability to play the spor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9144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id you know?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Content Placeholder 2"/>
          <p:cNvSpPr/>
          <p:nvPr/>
        </p:nvSpPr>
        <p:spPr>
          <a:xfrm>
            <a:off x="914400" y="41911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ational Football League researchers have found that 60% of fans of any sport say they became fans by age 11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rket Segment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 way of analyzing a market by specific characteristics to create a target marke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se characteristics include geographics, demographics, psychographics, and the products benefit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914400" y="309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rket Segmentation Shif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Content Placeholder 2"/>
          <p:cNvSpPr/>
          <p:nvPr/>
        </p:nvSpPr>
        <p:spPr>
          <a:xfrm>
            <a:off x="914400" y="4267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lf went from men ages 30 – 60, with an income of $50k - $175k to a new market of younger golfers…why do you think this i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ime Ou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ich new top athlete would you choose to appeal to teenagers or young adult consumers? Why?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ports Produc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020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ods, services, ideas, or a combination of those things related to sports that provide satisfaction to the consum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vide basic needs such as entertainment, sociability, or achievemen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914400" y="263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Sports Produc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914400" y="38098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orting Ev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orts In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orts Trai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orting Goo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angible Produc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ysical goods that offer benefits to the consum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914400" y="309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angible Produc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Content Placeholder 2"/>
          <p:cNvSpPr/>
          <p:nvPr/>
        </p:nvSpPr>
        <p:spPr>
          <a:xfrm>
            <a:off x="9144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nonphysical service such as tennis lessons, personal training, and sports camp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duct 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group of closely related products manufactured and/or sold by a compan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914400" y="309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duct Mix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Content Placeholder 2"/>
          <p:cNvSpPr/>
          <p:nvPr/>
        </p:nvSpPr>
        <p:spPr>
          <a:xfrm>
            <a:off x="914400" y="42670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otal assortment of products that a company makes and/or sel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0:10:21Z</dcterms:created>
  <dc:creator>Christina</dc:creator>
  <dc:description/>
  <dc:language>en-US</dc:language>
  <cp:lastModifiedBy>Christina</cp:lastModifiedBy>
  <dcterms:modified xsi:type="dcterms:W3CDTF">2012-02-16T00:49:20Z</dcterms:modified>
  <cp:revision>6</cp:revision>
  <dc:subject/>
  <dc:title>Chapter 3</dc:title>
</cp:coreProperties>
</file>